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explod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17B6-D4BC-4FB1-B59B-3254FBF7D8B1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образовательное учреждение  среднего профессионального образова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итета по здравоохранению Администрации  Волгоградской области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Медицинский колледж №1»,Волгогр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2EEF-8889-4B14-8417-4241172381E3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нарушении дыхания и сердечной деятельности производить оживление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2B8E-42DB-49A6-83F9-2A2A8C8475C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efe"/>
                </a:solidFill>
                <a:latin typeface="Calibri"/>
              </a:rPr>
              <a:t>Будьте осторож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2524-725B-431D-9E34-D5344F793B5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Calibri"/>
              </a:rPr>
              <a:t>Информационные источни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3D1F-4281-4FEE-B4A1-421ED8746F4D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В 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66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Информационны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2406-2EDC-43A2-9D3E-04C78626B788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A3F4-925C-48A8-B3B1-5DF2A4202324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ff"/>
                </a:solidFill>
                <a:latin typeface="Impact"/>
              </a:rPr>
              <a:t>СИМПТ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ульс едва прощупывается,дыхание еле</a:t>
            </a:r>
            <a:r>
              <a:rPr b="0" lang="ru-RU" sz="1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c3300"/>
                </a:solidFill>
                <a:latin typeface="Calibri"/>
              </a:rPr>
              <a:t>замет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54CA-7420-4908-BFF4-CA3A9B6B8D11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ac090"/>
                </a:solidFill>
                <a:latin typeface="Calibri"/>
              </a:rPr>
              <a:t>В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нач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Тошно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Рво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ровотечение из 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Судор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мо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27D6-1007-4999-8348-F574BB1F9FB2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ПЕРВАЯ ПОМОЩЬ ПРИ СОЛНЕЧНОМ УДА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его уложить в тени, освободить от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A0A6-66D3-466A-990F-0173ED966D15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9A37-A959-4D3F-859C-D9BF5B988D80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ЕРВАЯ ПОМОЩЬ ПРИ ТЕПЛОВОМ УДА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B778-096C-40C5-B2F5-051B9F3ED484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2F32-B996-45A2-B293-9FB0EEA74A8C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C9F-8936-4F92-8209-A8D52F5C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C73-1A75-4D68-81DC-D0ABCBB4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F9D-7B5F-4996-92F8-B45A6E03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1C1-498A-4E7C-A1F2-7A5CA1AB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AF0-FCEE-4331-828C-35442787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E7F-6B7F-4D70-8134-2B995B55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6DF-CC15-450F-8FC6-F48F5881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889-CA6D-451E-BB8B-977EC235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FB8-9E1F-4334-B974-94F948A8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678-A051-406C-BBBD-BF9B1C43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835-A8AB-4D94-8822-D86FE0AC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C2B-1F28-4A28-BA86-87D5496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CE0E-1483-45DC-AF3E-A4AFE46BB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uliya_chicherina_-_zhara.mp3" descr=""/>
          <p:cNvPicPr/>
          <p:nvPr/>
        </p:nvPicPr>
        <p:blipFill>
          <a:blip r:embed="rId1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pic>
        <p:nvPicPr>
          <p:cNvPr id="49" name="iuliya_chicherina_-_zhara.mp3" descr=""/>
          <p:cNvPicPr/>
          <p:nvPr/>
        </p:nvPicPr>
        <p:blipFill>
          <a:blip r:embed="rId2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 среднего профессионального образовани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итета по здравоохранению Администрации  Волгоградской области 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Медицинский колледж №1»,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443640" y="499428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составила студентка группы М-422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енко Оксана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877080" y="642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гоград,2011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3" name="Picture 11" descr="2_4A"/>
          <p:cNvPicPr/>
          <p:nvPr/>
        </p:nvPicPr>
        <p:blipFill>
          <a:blip r:embed="rId3"/>
          <a:stretch/>
        </p:blipFill>
        <p:spPr>
          <a:xfrm>
            <a:off x="611280" y="4746600"/>
            <a:ext cx="3155760" cy="2084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7"/>
          <p:cNvSpPr/>
          <p:nvPr/>
        </p:nvSpPr>
        <p:spPr>
          <a:xfrm>
            <a:off x="2627280" y="3774960"/>
            <a:ext cx="3025800" cy="269712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5" name="WordArt 19" descr=""/>
          <p:cNvPicPr/>
          <p:nvPr/>
        </p:nvPicPr>
        <p:blipFill>
          <a:blip r:embed="rId4"/>
          <a:stretch/>
        </p:blipFill>
        <p:spPr>
          <a:xfrm>
            <a:off x="384120" y="1322280"/>
            <a:ext cx="8399520" cy="112896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22" descr=""/>
          <p:cNvPicPr/>
          <p:nvPr/>
        </p:nvPicPr>
        <p:blipFill>
          <a:blip r:embed="rId5"/>
          <a:stretch/>
        </p:blipFill>
        <p:spPr>
          <a:xfrm>
            <a:off x="6076800" y="2687760"/>
            <a:ext cx="2891160" cy="1330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23" descr=""/>
          <p:cNvPicPr/>
          <p:nvPr/>
        </p:nvPicPr>
        <p:blipFill>
          <a:blip r:embed="rId6"/>
          <a:stretch/>
        </p:blipFill>
        <p:spPr>
          <a:xfrm>
            <a:off x="311040" y="2541600"/>
            <a:ext cx="5735880" cy="9828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5">
            <a:hlinkClick r:id="rId7"/>
          </p:cNvPr>
          <p:cNvSpPr/>
          <p:nvPr/>
        </p:nvSpPr>
        <p:spPr>
          <a:xfrm>
            <a:off x="8675640" y="6499080"/>
            <a:ext cx="468360" cy="331920"/>
          </a:xfrm>
          <a:custGeom>
            <a:avLst/>
            <a:gdLst>
              <a:gd name="textAreaLeft" fmla="*/ 21240 w 468360"/>
              <a:gd name="textAreaRight" fmla="*/ 447120 w 468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30469" h="21600">
                <a:moveTo>
                  <a:pt x="0" y="0"/>
                </a:moveTo>
                <a:lnTo>
                  <a:pt x="30469" y="0"/>
                </a:lnTo>
                <a:lnTo>
                  <a:pt x="30469" y="21600"/>
                </a:lnTo>
                <a:lnTo>
                  <a:pt x="0" y="21600"/>
                </a:lnTo>
                <a:close/>
              </a:path>
              <a:path fill="lightenLess" w="30469" h="21600">
                <a:moveTo>
                  <a:pt x="0" y="0"/>
                </a:moveTo>
                <a:lnTo>
                  <a:pt x="30469" y="0"/>
                </a:lnTo>
                <a:lnTo>
                  <a:pt x="29069" y="1400"/>
                </a:lnTo>
                <a:lnTo>
                  <a:pt x="1400" y="1400"/>
                </a:lnTo>
                <a:close/>
              </a:path>
              <a:path fill="darken" w="30469" h="21600">
                <a:moveTo>
                  <a:pt x="30469" y="0"/>
                </a:moveTo>
                <a:lnTo>
                  <a:pt x="30469" y="21600"/>
                </a:lnTo>
                <a:lnTo>
                  <a:pt x="29069" y="20200"/>
                </a:lnTo>
                <a:lnTo>
                  <a:pt x="29069" y="1400"/>
                </a:lnTo>
                <a:close/>
              </a:path>
              <a:path fill="darkenLess" w="30469" h="21600">
                <a:moveTo>
                  <a:pt x="30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9" y="20200"/>
                </a:lnTo>
                <a:close/>
              </a:path>
              <a:path fill="lighten" w="30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9" h="21600">
                <a:moveTo>
                  <a:pt x="8228" y="3794"/>
                </a:moveTo>
                <a:lnTo>
                  <a:pt x="22241" y="10800"/>
                </a:lnTo>
                <a:lnTo>
                  <a:pt x="822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over dir="u"/>
    <p:sndAc>
      <p:stSnd>
        <p:snd r:embed="rId8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 нарушении дыхания и сердечной деятельности производить оживление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3[3]"/>
          <p:cNvPicPr/>
          <p:nvPr/>
        </p:nvPicPr>
        <p:blipFill>
          <a:blip r:embed="rId1"/>
          <a:stretch/>
        </p:blipFill>
        <p:spPr>
          <a:xfrm>
            <a:off x="539640" y="4149720"/>
            <a:ext cx="441972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[2]"/>
          <p:cNvPicPr/>
          <p:nvPr/>
        </p:nvPicPr>
        <p:blipFill>
          <a:blip r:embed="rId2"/>
          <a:stretch/>
        </p:blipFill>
        <p:spPr>
          <a:xfrm>
            <a:off x="4859280" y="836640"/>
            <a:ext cx="2232000" cy="2879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5292720" y="4076640"/>
            <a:ext cx="2303640" cy="2016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а.jpeg"/>
          <p:cNvPicPr/>
          <p:nvPr/>
        </p:nvPicPr>
        <p:blipFill>
          <a:blip r:embed="rId1"/>
          <a:stretch/>
        </p:blipFill>
        <p:spPr>
          <a:xfrm>
            <a:off x="5000760" y="407196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786040"/>
            <a:ext cx="8278920" cy="15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ages.jpeg"/>
          <p:cNvPicPr/>
          <p:nvPr/>
        </p:nvPicPr>
        <p:blipFill>
          <a:blip r:embed="rId3"/>
          <a:stretch/>
        </p:blipFill>
        <p:spPr>
          <a:xfrm>
            <a:off x="428760" y="285840"/>
            <a:ext cx="3857400" cy="2714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ап.jpeg"/>
          <p:cNvPicPr/>
          <p:nvPr/>
        </p:nvPicPr>
        <p:blipFill>
          <a:blip r:embed="rId4"/>
          <a:stretch/>
        </p:blipFill>
        <p:spPr>
          <a:xfrm>
            <a:off x="428760" y="4071960"/>
            <a:ext cx="385740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ьер а.jpeg"/>
          <p:cNvPicPr/>
          <p:nvPr/>
        </p:nvPicPr>
        <p:blipFill>
          <a:blip r:embed="rId5"/>
          <a:stretch/>
        </p:blipFill>
        <p:spPr>
          <a:xfrm>
            <a:off x="4929120" y="285840"/>
            <a:ext cx="36435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Информационные источ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СОЛНЕЧНЫ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  тяжелых случа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ТЕПЛОВО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524720" y="189000"/>
            <a:ext cx="1441440" cy="129528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260280"/>
            <a:ext cx="1296720" cy="12240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24360" y="1773360"/>
            <a:ext cx="2160720" cy="2663640"/>
          </a:xfrm>
          <a:prstGeom prst="lightningBol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68" name="Picture 9" descr="002"/>
          <p:cNvPicPr/>
          <p:nvPr/>
        </p:nvPicPr>
        <p:blipFill>
          <a:blip r:embed="rId1"/>
          <a:stretch/>
        </p:blipFill>
        <p:spPr>
          <a:xfrm>
            <a:off x="5940360" y="19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ульс едва прощупывается,дыхание ел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ordArt 7" descr=""/>
          <p:cNvPicPr/>
          <p:nvPr/>
        </p:nvPicPr>
        <p:blipFill>
          <a:blip r:embed="rId1"/>
          <a:stretch/>
        </p:blipFill>
        <p:spPr>
          <a:xfrm>
            <a:off x="1536840" y="165240"/>
            <a:ext cx="6229080" cy="14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7"/>
          <p:cNvPicPr/>
          <p:nvPr/>
        </p:nvPicPr>
        <p:blipFill>
          <a:blip r:embed="rId2"/>
          <a:stretch/>
        </p:blipFill>
        <p:spPr>
          <a:xfrm>
            <a:off x="2484360" y="4653000"/>
            <a:ext cx="3610080" cy="2205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В ТЯЖЕЛЫХ СЛУЧА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2620800" y="1755720"/>
            <a:ext cx="3530880" cy="46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781360"/>
            <a:ext cx="78487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шнота</a:t>
            </a:r>
            <a:endParaRPr b="1" i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вота</a:t>
            </a:r>
            <a:endParaRPr b="1" i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ровотечение из носа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удороги</a:t>
            </a:r>
            <a:endParaRPr b="1" i="1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морок</a:t>
            </a: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77" name="Picture 6" descr="Клизма"/>
          <p:cNvPicPr/>
          <p:nvPr/>
        </p:nvPicPr>
        <p:blipFill>
          <a:blip r:embed="rId2"/>
          <a:stretch/>
        </p:blipFill>
        <p:spPr>
          <a:xfrm>
            <a:off x="5796000" y="2565360"/>
            <a:ext cx="295272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ПЕРВАЯ ПОМОЩЬ ПР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его уложить в тени, освободить от оде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4_4A"/>
          <p:cNvPicPr/>
          <p:nvPr/>
        </p:nvPicPr>
        <p:blipFill>
          <a:blip r:embed="rId1"/>
          <a:stretch/>
        </p:blipFill>
        <p:spPr>
          <a:xfrm rot="20569200">
            <a:off x="4643280" y="4581000"/>
            <a:ext cx="2735280" cy="199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_1A"/>
          <p:cNvPicPr/>
          <p:nvPr/>
        </p:nvPicPr>
        <p:blipFill>
          <a:blip r:embed="rId2"/>
          <a:stretch/>
        </p:blipFill>
        <p:spPr>
          <a:xfrm rot="20802600">
            <a:off x="1258920" y="4653000"/>
            <a:ext cx="280836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1"/>
          <a:stretch/>
        </p:blipFill>
        <p:spPr>
          <a:xfrm>
            <a:off x="669960" y="176040"/>
            <a:ext cx="7900920" cy="1202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1280" y="4292640"/>
            <a:ext cx="1800000" cy="2016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87" name="Рисунок 5" descr="ьер а.jpeg"/>
          <p:cNvPicPr/>
          <p:nvPr/>
        </p:nvPicPr>
        <p:blipFill>
          <a:blip r:embed="rId2"/>
          <a:stretch/>
        </p:blipFill>
        <p:spPr>
          <a:xfrm>
            <a:off x="4500720" y="421488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ЕРВАЯ ПОМОЩЬ ПРИ ТЕПЛОВ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435640" y="551664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580000" y="1773360"/>
            <a:ext cx="2303640" cy="201600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3" name="Picture 9" descr="i"/>
          <p:cNvPicPr/>
          <p:nvPr/>
        </p:nvPicPr>
        <p:blipFill>
          <a:blip r:embed="rId1"/>
          <a:stretch/>
        </p:blipFill>
        <p:spPr>
          <a:xfrm>
            <a:off x="5940360" y="4005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47628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3336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7" name="Picture 8" descr="С4"/>
          <p:cNvPicPr/>
          <p:nvPr/>
        </p:nvPicPr>
        <p:blipFill>
          <a:blip r:embed="rId1"/>
          <a:stretch/>
        </p:blipFill>
        <p:spPr>
          <a:xfrm>
            <a:off x="5796000" y="6206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octor"/>
          <p:cNvPicPr/>
          <p:nvPr/>
        </p:nvPicPr>
        <p:blipFill>
          <a:blip r:embed="rId2"/>
          <a:stretch/>
        </p:blipFill>
        <p:spPr>
          <a:xfrm>
            <a:off x="5364000" y="4265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56"/>
          <p:cNvPicPr/>
          <p:nvPr/>
        </p:nvPicPr>
        <p:blipFill>
          <a:blip r:embed="rId3"/>
          <a:stretch/>
        </p:blipFill>
        <p:spPr>
          <a:xfrm>
            <a:off x="2556000" y="472428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34:13Z</dcterms:created>
  <dc:creator>STUDENT</dc:creator>
  <dc:description/>
  <dc:language>en-US</dc:language>
  <cp:lastModifiedBy>LEGION</cp:lastModifiedBy>
  <dcterms:modified xsi:type="dcterms:W3CDTF">2015-05-12T09:05:18Z</dcterms:modified>
  <cp:revision>31</cp:revision>
  <dc:subject/>
  <dc:title>Первая помощь при</dc:title>
</cp:coreProperties>
</file>